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6561-3C7E-4DAD-902F-D4B81600B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2336-8F52-407E-9A7F-5B9B35BD3D9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44969-194F-4DB1-A38D-C30BB0F657CC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A150-DCDF-42CD-89A3-89CA0F2B97EE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F805A-C9FC-486A-88B5-E70E2A784270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2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Microsoft Sans Serif"/>
              </a:rPr>
              <a:t>  </a:t>
            </a:r>
            <a:r>
              <a:rPr b="1" lang="ru-RU" sz="3600" spc="-1" strike="noStrike">
                <a:solidFill>
                  <a:srgbClr val="006600"/>
                </a:solidFill>
                <a:latin typeface="Microsoft Sans Serif"/>
              </a:rPr>
              <a:t>Актуальные вопросы подготовки                      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Microsoft Sans Serif"/>
              </a:rPr>
              <a:t>            учащихся к ОГЭ 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Microsoft Sans Serif"/>
              </a:rPr>
              <a:t>    по французскому языку </a:t>
            </a:r>
            <a:br>
              <a:rPr sz="3600"/>
            </a:br>
            <a:r>
              <a:rPr b="1" lang="ru-RU" sz="3600" spc="-1" strike="noStrike">
                <a:solidFill>
                  <a:srgbClr val="006600"/>
                </a:solidFill>
                <a:latin typeface="Microsoft Sans Serif"/>
              </a:rPr>
              <a:t>             в 2020 году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8120" y="4876560"/>
            <a:ext cx="67816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fa5"/>
                </a:solidFill>
                <a:latin typeface="Microsoft Sans Serif"/>
              </a:rPr>
              <a:t>Исмагилова Ольга Алексеевна, председатель региональной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fa5"/>
                </a:solidFill>
                <a:latin typeface="Microsoft Sans Serif"/>
              </a:rPr>
              <a:t>предметной комиссии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05fa5"/>
                </a:solidFill>
                <a:latin typeface="Microsoft Sans Serif"/>
              </a:rPr>
              <a:t>по французскому языку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1294920"/>
            <a:ext cx="83055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Microsoft Sans Serif"/>
              </a:rPr>
              <a:t>Динамика результатов 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Microsoft Sans Serif"/>
              </a:rPr>
              <a:t>за последние 3 года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80880" y="2438280"/>
          <a:ext cx="8686800" cy="3276720"/>
        </p:xfrm>
        <a:graphic>
          <a:graphicData uri="http://schemas.openxmlformats.org/drawingml/2006/table">
            <a:tbl>
              <a:tblPr/>
              <a:tblGrid>
                <a:gridCol w="4554720"/>
                <a:gridCol w="1377720"/>
                <a:gridCol w="1376640"/>
                <a:gridCol w="1377720"/>
              </a:tblGrid>
              <a:tr h="617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Доля выпускников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7 г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8 г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9 г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получивших оценку «2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получивших оценку «4 и 5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84,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35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30,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  <a:tr h="849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набравших максимальное количество первичных баллов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средний бал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4,2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3,41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3,41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12193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езультаты выполнения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отдельных заданий </a:t>
            </a: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461960" y="1893960"/>
            <a:ext cx="6539040" cy="293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990720" y="5257800"/>
          <a:ext cx="7318080" cy="1011240"/>
        </p:xfrm>
        <a:graphic>
          <a:graphicData uri="http://schemas.openxmlformats.org/drawingml/2006/table">
            <a:tbl>
              <a:tblPr/>
              <a:tblGrid>
                <a:gridCol w="1600200"/>
                <a:gridCol w="1326960"/>
                <a:gridCol w="1644840"/>
                <a:gridCol w="1282680"/>
                <a:gridCol w="1463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Аудирование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Чтение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Грамматика и лексика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Письмо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Говорение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66,6 %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66,5 %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23,3 %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78 %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78 %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15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808080"/>
                </a:solidFill>
                <a:latin typeface="Microsoft Sans Serif"/>
              </a:rPr>
              <a:t>по аудированию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838080" y="2133720"/>
          <a:ext cx="7620120" cy="3760560"/>
        </p:xfrm>
        <a:graphic>
          <a:graphicData uri="http://schemas.openxmlformats.org/drawingml/2006/table">
            <a:tbl>
              <a:tblPr/>
              <a:tblGrid>
                <a:gridCol w="1548000"/>
                <a:gridCol w="2208240"/>
                <a:gridCol w="2077920"/>
                <a:gridCol w="1785960"/>
              </a:tblGrid>
              <a:tr h="1217160"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в работ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 / уме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редний 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Уровень сложности зада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7240"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1 (задания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о аудированию)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8080"/>
                </a:solidFill>
                <a:latin typeface="Microsoft Sans Serif"/>
              </a:rPr>
              <a:t>Результаты выполнения заданий по аудированию </a:t>
            </a: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010280" cy="2335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1047600" y="5029200"/>
            <a:ext cx="70470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81532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808080"/>
                </a:solidFill>
                <a:latin typeface="Microsoft Sans Serif"/>
              </a:rPr>
              <a:t>по чтению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33520" y="1752480"/>
          <a:ext cx="7543800" cy="3870360"/>
        </p:xfrm>
        <a:graphic>
          <a:graphicData uri="http://schemas.openxmlformats.org/drawingml/2006/table">
            <a:tbl>
              <a:tblPr/>
              <a:tblGrid>
                <a:gridCol w="1531800"/>
                <a:gridCol w="2185920"/>
                <a:gridCol w="2057400"/>
                <a:gridCol w="1768680"/>
              </a:tblGrid>
              <a:tr h="1217160"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в работ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 / уме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редний 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Уровень сложности зада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906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2 (задания по чтению)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Microsoft Sans Serif"/>
              </a:rPr>
              <a:t>Результаты выполнения заданий по чтению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7315200" cy="1828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380880" y="4651920"/>
            <a:ext cx="8458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Fête de la Musique a lieu à travers le mon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 21 jui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le premier jour de l’été dans l’hémisphère nord,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 soir et la nuit jusqu’au lendemain matin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14479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Microsoft Sans Serif"/>
              </a:rPr>
              <a:t>Типичные ошибки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еверное определение ключевого слова и тематики текста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епонимание разницы между утверждениями, которые не соответствуют содержанию текста и утверждениями, о которых в тексте не сказано, то есть на основании текста нельзя дать ни положительного, ни отрицательного ответа;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еумение найти в тексте синонимы или синонимичные выражения к лексическим единицам, которые использованы в утверждении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и др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15328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по грамматике и лексике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914400" y="1295280"/>
          <a:ext cx="7391520" cy="4953240"/>
        </p:xfrm>
        <a:graphic>
          <a:graphicData uri="http://schemas.openxmlformats.org/drawingml/2006/table">
            <a:tbl>
              <a:tblPr/>
              <a:tblGrid>
                <a:gridCol w="1692360"/>
                <a:gridCol w="2058840"/>
                <a:gridCol w="1654200"/>
                <a:gridCol w="1986120"/>
              </a:tblGrid>
              <a:tr h="1244880"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в работ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 / уме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Уровень сложности зада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редний 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3 (задания по грамматике и лексике)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914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Microsoft Sans Serif"/>
              </a:rPr>
              <a:t>Типичные ошибки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2120" y="1676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еправильное употребление времени глагола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2200" indent="-3222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еправильный выбор вспомогательного глагола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2200" indent="-3222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еверное образование форм множественного числа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2200" indent="-3222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ошибки в формах спряжения глаголов 3 группы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2200" indent="-3222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еверное образование форм степеней сравнения прилагательных и наречий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322200" indent="-32220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и др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90" name="Прямоугольник 1"/>
          <p:cNvSpPr/>
          <p:nvPr/>
        </p:nvSpPr>
        <p:spPr>
          <a:xfrm>
            <a:off x="457200" y="426708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В заданиях на словообразование </a:t>
            </a:r>
            <a:r>
              <a:rPr b="1" lang="ru-RU" sz="18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 </a:t>
            </a:r>
            <a:r>
              <a:rPr b="1" lang="fr-FR" sz="18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сложным было  задание </a:t>
            </a:r>
            <a:r>
              <a:rPr b="1" lang="ru-RU" sz="18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 </a:t>
            </a:r>
            <a:r>
              <a:rPr b="1" lang="fr-FR" sz="18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31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Il était le________________de la classe, un très bon élève,           BO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            </a:t>
            </a:r>
            <a:r>
              <a:rPr b="1" lang="fr-FR" sz="18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bon (le meilleur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1532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808080"/>
                </a:solidFill>
                <a:latin typeface="Microsoft Sans Serif"/>
              </a:rPr>
              <a:t>по письму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2286000"/>
          <a:ext cx="8153280" cy="3208320"/>
        </p:xfrm>
        <a:graphic>
          <a:graphicData uri="http://schemas.openxmlformats.org/drawingml/2006/table">
            <a:tbl>
              <a:tblPr/>
              <a:tblGrid>
                <a:gridCol w="1066680"/>
                <a:gridCol w="1524240"/>
                <a:gridCol w="1143000"/>
                <a:gridCol w="1295280"/>
                <a:gridCol w="636480"/>
                <a:gridCol w="760680"/>
                <a:gridCol w="865080"/>
                <a:gridCol w="861840"/>
              </a:tblGrid>
              <a:tr h="1947240"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в работ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 / уме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Уровень сложности зада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редний 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цент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выполнения по региону в группах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олучивших отметк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4 (задания по письменной речи)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7,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160" y="837720"/>
            <a:ext cx="4800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Microsoft Sans Serif"/>
              </a:rPr>
              <a:t>Содержание ОГЭ 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48" name="Схема 1" descr=""/>
          <p:cNvPicPr/>
          <p:nvPr/>
        </p:nvPicPr>
        <p:blipFill>
          <a:blip r:embed="rId1"/>
          <a:stretch/>
        </p:blipFill>
        <p:spPr>
          <a:xfrm>
            <a:off x="304920" y="1590840"/>
            <a:ext cx="853416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Microsoft Sans Serif"/>
              </a:rPr>
              <a:t>Типичные ошибки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666520"/>
            <a:ext cx="73152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отсутствие ответа на один из вопросов корреспондента по критерию «Решение коммуникативной задачи»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70720" indent="-27072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аличие ответов на вопросы не по теме задания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70720" indent="-27072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ошибки в употреблении различных классов местоимений, неправильное употребление глагольных времен, незнание глагольных форм по критерию «Языковое оформление текста»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70720" indent="-27072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ошибки в придаточных предложениях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70720" indent="-27072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неправильное написание  отдельных слов  по критерию «Орфография и пунктуация».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marL="270720" indent="-270720"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1426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80"/>
                </a:solidFill>
                <a:latin typeface="Microsoft Sans Serif"/>
              </a:rPr>
              <a:t>Типичные ошибки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14400" y="1980720"/>
            <a:ext cx="769608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Microsoft Sans Serif"/>
              </a:rPr>
              <a:t>Рассмотрим задание 33 открытого варианта КИМ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Microsoft Sans Serif"/>
              </a:rPr>
              <a:t>     </a:t>
            </a:r>
            <a:r>
              <a:rPr b="0" lang="fr-FR" sz="2000" spc="-1" strike="noStrike">
                <a:solidFill>
                  <a:srgbClr val="404040"/>
                </a:solidFill>
                <a:latin typeface="Microsoft Sans Serif"/>
              </a:rPr>
              <a:t>Vous avez reçu une lettre de votre correspondante française Marion. 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404040"/>
                </a:solidFill>
                <a:latin typeface="Microsoft Sans Serif"/>
              </a:rPr>
              <a:t>… </a:t>
            </a:r>
            <a:r>
              <a:rPr b="0" lang="fr-FR" sz="2000" spc="-1" strike="noStrike">
                <a:solidFill>
                  <a:srgbClr val="404040"/>
                </a:solidFill>
                <a:latin typeface="Microsoft Sans Serif"/>
              </a:rPr>
              <a:t>J'ai trois amies très proches et nous formons une bande très unie. Mais deux d'entre elles se détestent, et la plupart du temps à cause de moi ou « pour » moi. Dès que je passe trop de temps avec l'une, l'autre me fait la tête, et vice versa. Que dois-je faire, briser cette amitié fragile ? Et toi, combien d’amis as-tu ? En quelles relations êtes-vous ?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97" name="Прямоугольник 3"/>
          <p:cNvSpPr/>
          <p:nvPr/>
        </p:nvSpPr>
        <p:spPr>
          <a:xfrm>
            <a:off x="380880" y="5410080"/>
            <a:ext cx="838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Microsoft Sans Serif"/>
              </a:rPr>
              <a:t> </a:t>
            </a:r>
            <a:r>
              <a:rPr b="0" lang="fr-FR" sz="2000" spc="-1" strike="noStrike">
                <a:solidFill>
                  <a:srgbClr val="404040"/>
                </a:solidFill>
                <a:latin typeface="Microsoft Sans Serif"/>
              </a:rPr>
              <a:t>Écrivez-lui une lettre et répondez à ses 3 questions.(En 100–120 mots). 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Microsoft Sans Serif"/>
              </a:rPr>
              <a:t>  </a:t>
            </a:r>
            <a:r>
              <a:rPr b="0" lang="fr-FR" sz="2000" spc="-1" strike="noStrike">
                <a:solidFill>
                  <a:srgbClr val="404040"/>
                </a:solidFill>
                <a:latin typeface="Microsoft Sans Serif"/>
              </a:rPr>
              <a:t>Respectez les règles de la correspondance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1142640"/>
            <a:ext cx="81536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8080"/>
                </a:solidFill>
                <a:latin typeface="Microsoft Sans Serif"/>
              </a:rPr>
              <a:t>Результаты выполнения заданий </a:t>
            </a:r>
            <a:br>
              <a:rPr sz="3600"/>
            </a:br>
            <a:r>
              <a:rPr b="1" lang="ru-RU" sz="3600" spc="-1" strike="noStrike">
                <a:solidFill>
                  <a:srgbClr val="808080"/>
                </a:solidFill>
                <a:latin typeface="Microsoft Sans Serif"/>
              </a:rPr>
              <a:t>по говорению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09680"/>
          <a:ext cx="8153640" cy="3786480"/>
        </p:xfrm>
        <a:graphic>
          <a:graphicData uri="http://schemas.openxmlformats.org/drawingml/2006/table">
            <a:tbl>
              <a:tblPr/>
              <a:tblGrid>
                <a:gridCol w="1067040"/>
                <a:gridCol w="1523880"/>
                <a:gridCol w="1143000"/>
                <a:gridCol w="1295280"/>
                <a:gridCol w="636840"/>
                <a:gridCol w="760320"/>
                <a:gridCol w="865080"/>
                <a:gridCol w="862200"/>
              </a:tblGrid>
              <a:tr h="1947240"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в работ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веряемые элементы содержания / уме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Уровень сложности задания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Средний процент выполнения по вариант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роцент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выполнения по региону в группах, 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получивших отметку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7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«2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«3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«4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«5»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6600" marR="666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3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4 (задания по говорению)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74,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1,6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2,7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62,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3,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94,4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5,3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9907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040"/>
                </a:solidFill>
                <a:latin typeface="Microsoft Sans Serif"/>
              </a:rPr>
              <a:t>Задания по говорению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810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Чтение вслух небольшого текста: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b30059"/>
                </a:solidFill>
                <a:latin typeface="Times New Roman"/>
                <a:ea typeface="Times New Roman"/>
              </a:rPr>
              <a:t>éphémère, les artéfacts, le phénomène</a:t>
            </a:r>
            <a:r>
              <a:rPr b="1" lang="ru-RU" sz="2800" spc="-1" strike="noStrike">
                <a:solidFill>
                  <a:srgbClr val="b30059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и др.</a:t>
            </a:r>
            <a:r>
              <a:rPr b="1" lang="fr-FR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 Условный диалог –расспрос: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b30059"/>
                </a:solidFill>
                <a:latin typeface="Times New Roman"/>
                <a:ea typeface="Times New Roman"/>
              </a:rPr>
              <a:t>Avez-vous des animaux</a:t>
            </a:r>
            <a:r>
              <a:rPr b="1" lang="ru-RU" sz="2800" spc="-1" strike="noStrike">
                <a:solidFill>
                  <a:srgbClr val="b30059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b30059"/>
                </a:solidFill>
                <a:latin typeface="Times New Roman"/>
                <a:ea typeface="Times New Roman"/>
              </a:rPr>
              <a:t>domestiques? Lesquels? Si non, aimeriez-vous en avoir</a:t>
            </a:r>
            <a:r>
              <a:rPr b="1" lang="ru-RU" sz="2800" spc="-1" strike="noStrike">
                <a:solidFill>
                  <a:srgbClr val="b30059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b30059"/>
                </a:solidFill>
                <a:latin typeface="Times New Roman"/>
                <a:ea typeface="Times New Roman"/>
              </a:rPr>
              <a:t>un? Pourquoi ?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b30059"/>
                </a:solidFill>
                <a:latin typeface="Times New Roman"/>
                <a:ea typeface="Times New Roman"/>
              </a:rPr>
              <a:t>Une bonne idée d’avoir un animal dans son appartement en ville ? Pourquoi ?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8080"/>
                </a:solidFill>
                <a:latin typeface="Microsoft Sans Serif"/>
              </a:rPr>
              <a:t>Методические  рекомендации 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609480" y="2895480"/>
            <a:ext cx="8229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8080"/>
                </a:solidFill>
                <a:latin typeface="Arial Black"/>
              </a:rPr>
              <a:t> </a:t>
            </a: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егулярно проводить анализ нормативных документов, положенных в основу ОГЭ, следить за изменениями в содержании КИМ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комить обучающихся с демоверсиями ОГЭ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накомить обучающихся с критериями оценивания заданий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активизировать обучение говорению с использованием технического оборудования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бращать  внимание на выполнение заданий интерактивного характера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у обучающихся умение четко выполнять поставленную задачу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оводить постоянную работу по обогащению лексического запаса обучающихся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делять внимание фонетическому аспекту речи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развивать умения и навыки спонтанной речи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стоянно выполнять задания "открытых" вариантов ОГЭ;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систематически проводить работу по анализу  допущенных обучающимися ошибок в ходе ОГЭ.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0404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0077"/>
                </a:solidFill>
                <a:latin typeface="Microsoft Sans Serif"/>
              </a:rPr>
              <a:t>QUESTIONS ???</a:t>
            </a:r>
            <a:endParaRPr b="0" lang="en-US" sz="5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3352680"/>
            <a:ext cx="9144000" cy="103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b050"/>
                </a:solidFill>
                <a:latin typeface="Microsoft Sans Serif"/>
              </a:rPr>
              <a:t>oismagilova2@yandex.ru</a:t>
            </a:r>
            <a:endParaRPr b="0" lang="en-US" sz="48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06" name="Текст 5"/>
          <p:cNvSpPr/>
          <p:nvPr/>
        </p:nvSpPr>
        <p:spPr>
          <a:xfrm>
            <a:off x="228600" y="4867200"/>
            <a:ext cx="8458200" cy="10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a6a6a6"/>
                </a:solidFill>
                <a:latin typeface="Microsoft Sans Serif"/>
              </a:rPr>
              <a:t>Спасибо  за  внимание!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Распределение заданий по количеству и типам заданий</a:t>
            </a: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295280" y="2057400"/>
          <a:ext cx="6782040" cy="4037040"/>
        </p:xfrm>
        <a:graphic>
          <a:graphicData uri="http://schemas.openxmlformats.org/drawingml/2006/table">
            <a:tbl>
              <a:tblPr/>
              <a:tblGrid>
                <a:gridCol w="346320"/>
                <a:gridCol w="1782720"/>
                <a:gridCol w="1252440"/>
                <a:gridCol w="1657440"/>
                <a:gridCol w="1743120"/>
              </a:tblGrid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Число заданий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Максимальный первичный бал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1 (задания по аудированию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с кратким ответом 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дел 2 (задания по чтению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с кратким ответом 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3 (задания по грамматике и лексике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с кратким ответом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4 (задание по письму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е с развернутым ответом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аздел 5 (задания по говорению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Задания с развернутым ответом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аздел 2 (Задания по чтению)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62120" y="1371240"/>
            <a:ext cx="76197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изменения в задании 9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buClr>
                <a:srgbClr val="404040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Microsoft Sans Serif"/>
              </a:rPr>
              <a:t>изменения в задании 10-16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>
              <a:buClr>
                <a:srgbClr val="404040"/>
              </a:buClr>
              <a:buFont typeface="Microsoft Sans Serif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762120" y="1981080"/>
            <a:ext cx="7619760" cy="1143000"/>
          </a:xfrm>
          <a:prstGeom prst="rect">
            <a:avLst/>
          </a:prstGeom>
          <a:gradFill rotWithShape="0">
            <a:gsLst>
              <a:gs pos="0">
                <a:srgbClr val="c1ddf6"/>
              </a:gs>
              <a:gs pos="100000">
                <a:srgbClr val="167edc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ы проводите информационный поиск в ходе выполнения проектной работы.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пределите, в каком из текстов A-F содержатся ответы на интересующие Вас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опросы 1-7. Один из вопросов останется без ответа. 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несите Ваши ответы в таблицу.</a:t>
            </a:r>
            <a:endParaRPr b="0" lang="en-US" sz="16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143000" y="3276720"/>
          <a:ext cx="5715000" cy="1103040"/>
        </p:xfrm>
        <a:graphic>
          <a:graphicData uri="http://schemas.openxmlformats.org/drawingml/2006/table">
            <a:tbl>
              <a:tblPr/>
              <a:tblGrid>
                <a:gridCol w="1257480"/>
                <a:gridCol w="1503360"/>
                <a:gridCol w="1431720"/>
                <a:gridCol w="1522440"/>
              </a:tblGrid>
              <a:tr h="3506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20 г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9 г.</a:t>
                      </a:r>
                      <a:endParaRPr b="0" lang="en-US" sz="20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текст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текст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7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43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вопрос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7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заголовок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1295280" y="5181480"/>
          <a:ext cx="3886200" cy="99072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</a:tblGrid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20 г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10-16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</a:tr>
              <a:tr h="49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2019 г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10-17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219320"/>
            <a:ext cx="762012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аздел 5 (задания по говорению)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14400" y="205740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Activité 3. Vous allez parler du mode de vie sain. Vous avez d’abord 1 mn 30 pour préparer votre exposé. Votre exposé peut durer 2 mn maximum (de 10 à 12 phrases)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N’oubliez pas de dire: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    </a:t>
            </a: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ce que vous faites pour garder la forme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    </a:t>
            </a: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pourquoi il faut toujours rester en forme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    </a:t>
            </a: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quels ateliers sportifs il y a dans votre école;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    </a:t>
            </a: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ce que vous pensez des activités sportives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buClr>
                <a:srgbClr val="40404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404040"/>
                </a:solidFill>
                <a:latin typeface="Microsoft Sans Serif"/>
              </a:rPr>
              <a:t>Votre exposé doit être cohérent et logique.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17521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Распределение баллов </a:t>
            </a:r>
            <a:br>
              <a:rPr sz="3600"/>
            </a:br>
            <a:r>
              <a:rPr b="1" lang="ru-RU" sz="3600" spc="-1" strike="noStrike">
                <a:solidFill>
                  <a:srgbClr val="404040"/>
                </a:solidFill>
                <a:latin typeface="Microsoft Sans Serif"/>
              </a:rPr>
              <a:t>по 5-бальной шкале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066680" y="3124080"/>
          <a:ext cx="7315200" cy="144792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</a:tblGrid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«2»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«3»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«4»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«5»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0-28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29-45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46-57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58-68</a:t>
                      </a:r>
                      <a:endParaRPr b="0" lang="en-US" sz="2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12193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Microsoft Sans Serif"/>
                <a:ea typeface="Aharoni"/>
              </a:rPr>
              <a:t>Продолжительность ОГЭ по ФЯ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95280" y="2057400"/>
          <a:ext cx="6782040" cy="4265640"/>
        </p:xfrm>
        <a:graphic>
          <a:graphicData uri="http://schemas.openxmlformats.org/drawingml/2006/table">
            <a:tbl>
              <a:tblPr/>
              <a:tblGrid>
                <a:gridCol w="606600"/>
                <a:gridCol w="3508200"/>
                <a:gridCol w="2667240"/>
              </a:tblGrid>
              <a:tr h="5680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екомендуемое время выполнения заданий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1 (задания по аудированию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 минут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2 (задания по чтению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 минут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3 (задания по грамматике и лексике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 минут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4 (задание по письму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30 минут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Раздел 5 (задания по говорению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5 минут (на одного отвечающего)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Times New Roman"/>
                          <a:ea typeface="Times New Roman"/>
                        </a:rPr>
                        <a:t>135 минут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8080"/>
                </a:solidFill>
                <a:latin typeface="Microsoft Sans Serif"/>
              </a:rPr>
              <a:t>           </a:t>
            </a:r>
            <a:r>
              <a:rPr b="1" lang="ru-RU" sz="2400" spc="-1" strike="noStrike">
                <a:solidFill>
                  <a:srgbClr val="808080"/>
                </a:solidFill>
                <a:latin typeface="Microsoft Sans Serif"/>
              </a:rPr>
              <a:t>Участники ОГЭ по французскому языку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5800" y="2514600"/>
          <a:ext cx="7878600" cy="3251160"/>
        </p:xfrm>
        <a:graphic>
          <a:graphicData uri="http://schemas.openxmlformats.org/drawingml/2006/table">
            <a:tbl>
              <a:tblPr/>
              <a:tblGrid>
                <a:gridCol w="1730520"/>
                <a:gridCol w="630000"/>
                <a:gridCol w="1251000"/>
                <a:gridCol w="762120"/>
                <a:gridCol w="1341360"/>
                <a:gridCol w="838080"/>
                <a:gridCol w="1325520"/>
              </a:tblGrid>
              <a:tr h="523800">
                <a:tc row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Учебный 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предмет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7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2dc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2dc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2019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2dc01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чел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% от общего числа участников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чел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% от общего числа участников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чел.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% от общего числа участников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14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Французский язык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1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0,194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2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0,288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1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808080"/>
                          </a:solidFill>
                          <a:latin typeface="Microsoft Sans Serif"/>
                        </a:rPr>
                        <a:t>0, 187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</a:tbl>
          </a:graphicData>
        </a:graphic>
      </p:graphicFrame>
      <p:sp>
        <p:nvSpPr>
          <p:cNvPr id="66" name="Заголовок 1"/>
          <p:cNvSpPr/>
          <p:nvPr/>
        </p:nvSpPr>
        <p:spPr>
          <a:xfrm>
            <a:off x="-152280" y="914400"/>
            <a:ext cx="853416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Microsoft Sans Serif"/>
              </a:rPr>
              <a:t>Результаты ОГЭ 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Microsoft Sans Serif"/>
              </a:rPr>
              <a:t>по французскому языку</a:t>
            </a:r>
            <a:r>
              <a:rPr b="1" lang="en-US" sz="3200" spc="-1" strike="noStrike">
                <a:solidFill>
                  <a:srgbClr val="404040"/>
                </a:solidFill>
                <a:latin typeface="Microsoft Sans Serif"/>
              </a:rPr>
              <a:t> </a:t>
            </a:r>
            <a:r>
              <a:rPr b="1" lang="ru-RU" sz="3200" spc="-1" strike="noStrike">
                <a:solidFill>
                  <a:srgbClr val="404040"/>
                </a:solidFill>
                <a:latin typeface="Microsoft Sans Serif"/>
              </a:rPr>
              <a:t>в 2019 году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Microsoft Sans Serif"/>
              </a:rPr>
              <a:t>Результаты  участников  ОГЭ </a:t>
            </a:r>
            <a:br>
              <a:rPr sz="3200"/>
            </a:br>
            <a:r>
              <a:rPr b="1" lang="ru-RU" sz="3200" spc="-1" strike="noStrike">
                <a:solidFill>
                  <a:srgbClr val="404040"/>
                </a:solidFill>
                <a:latin typeface="Microsoft Sans Serif"/>
              </a:rPr>
              <a:t>по французскому языку в 2019 году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762120" y="2514600"/>
          <a:ext cx="7619760" cy="3505320"/>
        </p:xfrm>
        <a:graphic>
          <a:graphicData uri="http://schemas.openxmlformats.org/drawingml/2006/table">
            <a:tbl>
              <a:tblPr/>
              <a:tblGrid>
                <a:gridCol w="5465520"/>
                <a:gridCol w="2154240"/>
              </a:tblGrid>
              <a:tr h="72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оличество участников,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Microsoft Sans Serif"/>
                        </a:rPr>
                        <a:t>Количество участников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c010"/>
                    </a:solidFill>
                  </a:tcPr>
                </a:tc>
              </a:tr>
              <a:tr h="48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получивших оценку «2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получивших оценку «3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9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получивших оценку «4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3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  <a:tr h="48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получивших оценку «5»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1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4e7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набравших максимальное количество первичных баллов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404040"/>
                          </a:solidFill>
                          <a:latin typeface="Microsoft Sans Serif"/>
                        </a:rPr>
                        <a:t>0</a:t>
                      </a:r>
                      <a:endParaRPr b="0" lang="en-US" sz="18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лицей 21</cp:lastModifiedBy>
  <dcterms:modified xsi:type="dcterms:W3CDTF">2020-01-29T08:59:10Z</dcterms:modified>
  <cp:revision>225</cp:revision>
  <dc:subject/>
  <dc:title>Name of presentation</dc:title>
</cp:coreProperties>
</file>